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6F4-4C46-403E-9D94-DF13E2E4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BCE-CE9A-4DA6-9B18-6C201774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B3A-20BA-42BE-9D55-93B8C840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86E-A903-4024-AFFC-BC00EE52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9D40-42DB-4720-9000-AEBFCC06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E8B-4DD8-43E5-B1CA-7EED2498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EC44-092B-4433-8747-D0A6EB6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F2F-D6DD-4301-991B-BDFFACA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2F4C-6CD8-4A76-B238-586C07F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B0DA-940A-4B98-AD25-ED67D24E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754B-6F55-4DC5-9E77-CC07E6E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DBD-91F0-423B-AE13-B7A57D1B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6082-CFB6-4315-9C7F-D8469E4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DD19-7437-49B3-82D3-A76A7B6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365E-5746-46F5-AA6A-8061A713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6971-BBFF-4ABE-B218-F1B4AE3E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92FD-BE0E-46D5-BDFC-6A775B23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66D-DB36-41F5-BFD4-51EFFFA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A0D-5CE6-48B8-9F60-6827357B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B03-7F55-4F7D-A4D4-1C95A3E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937-B885-4ADA-A6FB-2394DE0A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BA7-BEF9-48CF-865B-FAA52D9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592-0CE6-4829-BFBB-9DB7A91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3CD-2E51-4F24-A3EC-506A93A4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8630-CCD1-43C7-A843-C398B8E0D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558E-F1D2-49B8-97D4-5C4AB6C02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962160"/>
            <a:ext cx="83055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Mis Vacaciones en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Barcelona, Españ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es Dassoni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SpainF"/>
          <p:cNvPicPr/>
          <p:nvPr/>
        </p:nvPicPr>
        <p:blipFill>
          <a:blip r:embed="rId1"/>
          <a:stretch/>
        </p:blipFill>
        <p:spPr>
          <a:xfrm>
            <a:off x="2362320" y="0"/>
            <a:ext cx="4419360" cy="335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l30990-1.jpg"/>
          <p:cNvPicPr/>
          <p:nvPr/>
        </p:nvPicPr>
        <p:blipFill>
          <a:blip r:embed="rId2"/>
          <a:stretch/>
        </p:blipFill>
        <p:spPr>
          <a:xfrm>
            <a:off x="0" y="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l30990-1.jpg"/>
          <p:cNvPicPr/>
          <p:nvPr/>
        </p:nvPicPr>
        <p:blipFill>
          <a:blip r:embed="rId3"/>
          <a:stretch/>
        </p:blipFill>
        <p:spPr>
          <a:xfrm>
            <a:off x="6788160" y="0"/>
            <a:ext cx="2355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2840" y="1522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Hot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5257800"/>
            <a:ext cx="800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i hotel se llama hotel Majestic. Es un hotel muy bonito y muy grande. Localizado en el centro de la ciu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otel_Majestic,_Barcelona-view"/>
          <p:cNvPicPr/>
          <p:nvPr/>
        </p:nvPicPr>
        <p:blipFill>
          <a:blip r:embed="rId1"/>
          <a:stretch/>
        </p:blipFill>
        <p:spPr>
          <a:xfrm>
            <a:off x="228600" y="914400"/>
            <a:ext cx="3505320" cy="236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otel-majestic-barcelona"/>
          <p:cNvPicPr/>
          <p:nvPr/>
        </p:nvPicPr>
        <p:blipFill>
          <a:blip r:embed="rId2"/>
          <a:stretch/>
        </p:blipFill>
        <p:spPr>
          <a:xfrm>
            <a:off x="4114800" y="1219320"/>
            <a:ext cx="421632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72428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 Black"/>
              </a:rPr>
              <a:t>What I Bough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35816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030a0"/>
                </a:solidFill>
                <a:latin typeface="Arial"/>
              </a:rPr>
              <a:t>Compré un par de zapatos de cuero. También compré un vino Español muy bueno y muy ca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69fe56a95b"/>
          <p:cNvPicPr/>
          <p:nvPr/>
        </p:nvPicPr>
        <p:blipFill>
          <a:blip r:embed="rId1"/>
          <a:stretch/>
        </p:blipFill>
        <p:spPr>
          <a:xfrm>
            <a:off x="457200" y="22860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J-8"/>
          <p:cNvPicPr/>
          <p:nvPr/>
        </p:nvPicPr>
        <p:blipFill>
          <a:blip r:embed="rId2"/>
          <a:stretch/>
        </p:blipFill>
        <p:spPr>
          <a:xfrm>
            <a:off x="4572000" y="1219320"/>
            <a:ext cx="3824280" cy="541008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45280" y="0"/>
            <a:ext cx="2898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LU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87692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cc"/>
                </a:solidFill>
                <a:latin typeface="Arial"/>
              </a:rPr>
              <a:t>El lunes fui a la playa. Estuve ahí por 3 horas. Me fui a caminar por el pueblo. Tuve un almuerzo y estaba delicioso. Después de eso me fui y compré algunos recuerdos y tambien compre un reloj Rolex. Vi un letrero que decía "NO A LAS DROGAS Y, SI A LOS TACOS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Rolex Datejust Royal Black luxury watch (3)"/>
          <p:cNvPicPr/>
          <p:nvPr/>
        </p:nvPicPr>
        <p:blipFill>
          <a:blip r:embed="rId1"/>
          <a:stretch/>
        </p:blipFill>
        <p:spPr>
          <a:xfrm>
            <a:off x="609480" y="304920"/>
            <a:ext cx="3124440" cy="296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_Love_Tacos"/>
          <p:cNvPicPr/>
          <p:nvPr/>
        </p:nvPicPr>
        <p:blipFill>
          <a:blip r:embed="rId2"/>
          <a:stretch/>
        </p:blipFill>
        <p:spPr>
          <a:xfrm>
            <a:off x="3886200" y="762120"/>
            <a:ext cx="2514600" cy="2466720"/>
          </a:xfrm>
          <a:prstGeom prst="rect">
            <a:avLst/>
          </a:prstGeom>
          <a:ln w="0">
            <a:noFill/>
          </a:ln>
        </p:spPr>
      </p:pic>
    </p:spTree>
  </p:cSld>
  <p:transition advTm="17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 Black"/>
              </a:rPr>
              <a:t>MAR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040" y="3352320"/>
            <a:ext cx="6178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El segundo día me fui en vehículos cómico todo el terreno y realizé una gira por Barcelona. Fue muy divertido. Yo vi muchos lugares  interesantes. Uno de ellos fue el Museo de Picas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lambo-atv-1.jpg"/>
          <p:cNvPicPr/>
          <p:nvPr/>
        </p:nvPicPr>
        <p:blipFill>
          <a:blip r:embed="rId1"/>
          <a:stretch/>
        </p:blipFill>
        <p:spPr>
          <a:xfrm>
            <a:off x="4419720" y="304920"/>
            <a:ext cx="4286160" cy="284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casso-Museum.jpg"/>
          <p:cNvPicPr/>
          <p:nvPr/>
        </p:nvPicPr>
        <p:blipFill>
          <a:blip r:embed="rId2"/>
          <a:stretch/>
        </p:blipFill>
        <p:spPr>
          <a:xfrm>
            <a:off x="152280" y="1143000"/>
            <a:ext cx="3348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325"/>
                </a:solidFill>
                <a:latin typeface="Arial Black"/>
              </a:rPr>
              <a:t>Miercoles-Vierne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4114440"/>
            <a:ext cx="8007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Me hizo muy poco del Miercoles-Viernes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 estaba muy flojo.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viernes yo </a:t>
            </a:r>
            <a:r>
              <a:rPr b="0" lang="es-ES" sz="3200" spc="-1" strike="noStrike">
                <a:solidFill>
                  <a:srgbClr val="161616"/>
                </a:solidFill>
                <a:latin typeface="Arial"/>
              </a:rPr>
              <a:t>regrese a mi casa en un jet privado. Yo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soy Stuntt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lazy_couch_potato.jpg"/>
          <p:cNvPicPr/>
          <p:nvPr/>
        </p:nvPicPr>
        <p:blipFill>
          <a:blip r:embed="rId1"/>
          <a:stretch/>
        </p:blipFill>
        <p:spPr>
          <a:xfrm>
            <a:off x="380880" y="838080"/>
            <a:ext cx="337824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private_jet_gulfstream_sm8u.jpg"/>
          <p:cNvPicPr/>
          <p:nvPr/>
        </p:nvPicPr>
        <p:blipFill>
          <a:blip r:embed="rId2"/>
          <a:stretch/>
        </p:blipFill>
        <p:spPr>
          <a:xfrm>
            <a:off x="4876920" y="990720"/>
            <a:ext cx="3740040" cy="321156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9:42Z</dcterms:created>
  <dc:creator>dassonimil</dc:creator>
  <dc:description/>
  <dc:language>en-US</dc:language>
  <cp:lastModifiedBy>Dassoni Family 2010</cp:lastModifiedBy>
  <dcterms:modified xsi:type="dcterms:W3CDTF">2011-12-04T21:40:30Z</dcterms:modified>
  <cp:revision>34</cp:revision>
  <dc:subject/>
  <dc:title>Slide 1</dc:title>
</cp:coreProperties>
</file>